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B87-FE99-4F8B-A291-DF17B3DB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86A-AE87-416C-BB72-C561EB09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046-19E0-43F2-AF10-D52B35B4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F6B4-5AE0-4AEE-B276-8DB85A83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2EE-0160-474E-9869-9EEB51C4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382-486B-4F75-A1D8-39208F3B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4F7-B657-4E75-9D5C-0D487C7D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47D-7954-4F9F-AB61-B6D38381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B8A-E1C9-4B2F-A54C-6858CB6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FA1-4472-4F74-8037-9EB216D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BB3-C8C3-4DAB-9F10-62B26476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918-FC07-41FE-8E42-956B10F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BFC6-0A76-4F7F-A1A7-02DD37639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sychodelirium.com/images/anger.jpg&amp;imgrefurl=http://www.psychodelirium.com/&amp;usg=__30CMyzPvYTE1qqisGJc8Mmxy81E=&amp;h=270&amp;w=200&amp;sz=12&amp;hl=en&amp;start=12&amp;um=1&amp;itbs=1&amp;tbnid=qpdXi8Uylh2vMM:&amp;tbnh=113&amp;tbnw=84&amp;prev=/images%3Fq%3Dcauses%2Bof%2Bpsychological%2Bdisorders%26hl%3Den%26safe%3Dactive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60948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sychological Dis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Abnorm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is the defin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ypic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ladap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otional Discom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ocially Unacceptable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identity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ence of 2 or more personalities within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undesirable urges by developing other personalities that can take reasonability for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ersonalization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lings of detachment from one’s mental process or body. They feel as if they are outside their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goes outside the self, away from the turmoil with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atoform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ato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 rot="20449800">
            <a:off x="490680" y="2296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Franklin Gothic Heavy"/>
              </a:rPr>
              <a:t>Somatoform disorder is a mental disorder characterized by physical symptoms that mimic physical disease or injury for which there is no identifiable physical ca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 rot="20688600">
            <a:off x="4721760" y="464832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Franklin Gothic Heavy"/>
              </a:rPr>
              <a:t>Lady from radio lab who could not sing after her husband left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 rot="20508600">
            <a:off x="761040" y="1676520"/>
            <a:ext cx="2895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 rot="20733000">
            <a:off x="5714640" y="4191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str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ieved to be one of the most common causes of somatoform disorders in children and adolesce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tain people are more likely to get somatoform based on family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d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Josh Myers and Tim Ma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2985120" y="1600200"/>
            <a:ext cx="202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bes que me gusta las salchichas es de ma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366000" y="6642000"/>
            <a:ext cx="202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bes que me gusta las salchichas es de mai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 disorder is a mental illness that mainly affects a person's m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-p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c 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causes mood disorders / mental illn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ers believe most serious mental illnesses are caused by complex imbalances in the brain's chemical activity. They also believe environmental factors can play a part in triggering, or cushioning against, the onset of mental ill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izophrenia (Psychos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logical Disorder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xiety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sociative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atoform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d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hizophrenia (Psychotic)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rsonality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izophr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9047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efinition: Schizophrenia is considered one of the most serious of the physiological disorders. It is characterized by loss of contact with reality, the symptoms include, hallucinations, delusions and thought disorde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990720" y="380988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 Paranoid schizophrenia, often hearing voices and delusions related to a single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rganized schizophrenia, incoherent thought and speech and though, disorga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atonic schizophrenia, disturbance of movement. Activity may slow to a stupor and suddenly switch to ag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SCHIZOPHR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1 psychological viewpoint, the animalistic or id, overruns the 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2 biological viewpoint, the disease is a brain disorder involving brain size and smaller frontal lobe. Loss of synap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3 Multifactoral viewpoint, is a combination of the lat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47242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This lovely two slide power point was done by Rachel Rivera and Ali Adsit </a:t>
            </a:r>
            <a:r>
              <a:rPr b="1" lang="en-US" sz="2000" spc="-1" strike="noStrike">
                <a:solidFill>
                  <a:srgbClr val="89898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ang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362320"/>
            <a:ext cx="158580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atterns of inflexible traits that disrupt social life or work and/or distress the affected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amples ar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noid, Schizoid, Schizotypal, Anti-social, Borderline, Histrionic, Narcissistic, Avoidant, Dependent, Obsessive-compul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Causes of Personali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iological View states that there are a lack of neurons in the frontal part of the brain than “normal” peo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sychological View states that there is a problem in the development of the conscious and super 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xiety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. Psychologic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Psychoanalytical Theorists (repressed childhood urg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Learning Theorists (phobias are conditioned/learned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Cognitive Theorists (make ourselves feel anxious by responding negatively to most situ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. Biological (heredity…twin stud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. Interaction of F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xiety disorders may reflect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the interaction of psychological and biological fac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x. Panic Disorder = Physical Symptoms…causes fear and leads to even more intense panic sympto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Dissociative disorders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T AND MARRISCA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paration of certain personality components or mental process from conscious thought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ociative am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ociative fug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sociative identity dis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rsonalization dis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Amnes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dden loss of memory, usually following a particularly stressful or traumatic ev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esia or fugue, the person forgets disturbing im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sociative Fu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getting personal information and past events, and suddenly relocating form home or work and talking on a new ident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nesia or fugue, the person forgets disturbing im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8:01:46Z</dcterms:created>
  <dc:creator>BHS</dc:creator>
  <dc:description/>
  <dc:language>en-US</dc:language>
  <cp:lastModifiedBy>BHS</cp:lastModifiedBy>
  <dcterms:modified xsi:type="dcterms:W3CDTF">2010-02-19T19:14:08Z</dcterms:modified>
  <cp:revision>8</cp:revision>
  <dc:subject/>
  <dc:title>Slide 1</dc:title>
</cp:coreProperties>
</file>